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114-5C12-4B13-BF60-8A7EB3231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F626-1ED2-4516-9ACA-7156260C51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89A-525D-47F6-B3FA-E43870B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140-A090-4305-8526-664C764D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251-80C0-446D-B76D-73E7A2B8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8BB-190C-4763-9F57-70171E76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147-12A9-4AD0-B0A5-375E5A08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07C-21A1-4C45-A610-9547181D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671-37EC-432A-B9B9-BCFEFB2D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154-7B76-44C5-B3B7-25E1C6B6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A74-14C0-4327-B54F-115DE1DF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816-C981-4B8B-B531-3ACD512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BD4-6278-4025-BCDE-8820341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95A-BEBF-4D84-AFC2-D56A2CA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3C1-6353-46AF-902E-C698984790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nit_Plan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1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69" name="MSSN00435A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1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31240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 </cp:lastModifiedBy>
  <dcterms:modified xsi:type="dcterms:W3CDTF">2009-05-21T19:11:36Z</dcterms:modified>
  <cp:revision>25</cp:revision>
  <dc:subject/>
  <dc:title>What Goes Up Must Come Down</dc:title>
</cp:coreProperties>
</file>